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4DE5-B589-4F09-B5AB-495742FABA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FB47-9481-498F-BB2D-9C37EC68A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orrow Group – Speak up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3A58-1F54-4E48-8E9D-5FA1F0E2C2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59CE-B739-49AE-B34D-5ECD931BC6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E63-E5CF-41DA-8F45-7BBBDB0B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62B-7143-4A23-96C8-58045607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1D7-8EDC-4613-B935-80D0AA46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307-7C95-42B1-A5F6-25F9ACA5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17C8-EC84-4467-9540-DCDC816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58FD-D765-4990-A065-6B53B58C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6228-A8D5-4F8A-8991-05B6FF73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0E55-CC46-409D-9770-AB9BF35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490-5061-4165-B35B-664F0846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36D7-7B4F-4AA0-B727-58D5C35F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554F-0B77-4859-AF29-D5E2A123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E37-1C94-4B80-B600-E6C62DF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266E-DD42-4559-9C20-A8E413B9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0522-3F87-4436-BB1A-97AC603A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DE08-5253-4FA2-B21B-CB7EBC37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A3C9-E859-4562-8B11-F3F61B1C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9901-ECCE-4707-8021-7B7CCBDF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8776-F781-4915-9703-AAF47E26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821A-DED0-47E0-9A81-40EF0196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F474-4EBD-4CAE-8C19-1BAA1F3F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ECEC0-13EB-4541-A0CE-12186E26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B06D-CDA3-4D05-BB93-02C1EDB1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28E-9E11-487C-B9CF-8D58B3C1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3DF6-0C67-49B0-9764-4DF49CD3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6058-2DFA-4A8A-8D91-F6E33FB8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9D47-BC15-4BB8-AF4D-D48AA50A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340B-B90D-44C3-8C24-C87217BD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F055-6D60-40A9-9A49-6B09A963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3ACC-333F-4FA5-9C60-7C2F88C2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4BFC-DDE6-46A0-BBAC-E55BE9E2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1889-24FE-4B4A-864E-9C069A76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76C5-0B49-4461-AD76-E18E7B92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F7E6-1532-4C1F-8510-EFC485FB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32B-7D93-4A90-BE80-9BE9096B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8159-6F1C-46F8-B7B1-32F90EC6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F129-56AC-45C5-AE3F-486830C8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7942-1C8D-414A-894E-B2A8BE98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2728-935E-42D2-9CF6-3AA0CEC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FE1D-B6C8-4C37-9845-2367F0C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21C4-3631-4B9E-9027-E9AB6721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D35A-F262-40D2-A1D5-23E7B39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6346-892D-4581-A65F-C3DF65F4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CF990-9AA7-47BF-B384-90820E9D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848B3-3615-45BD-8780-8C61DA46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1A8-675F-4E2E-934B-4EB260E5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BC90C-5C9D-43D3-A00F-62867F59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FBACB-872C-4C05-8A5F-8E338380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5B588-7271-4A54-A9F4-FB762169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53C1-E9F8-479E-B3C1-3AC6A99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B0966-2DBA-4055-9AB4-53B1D5DD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8E81-7E86-4A20-AC35-4985EC2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3885-1014-4A7F-8A17-EFABD21A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6C6B6-B994-4F01-9E59-FD72FD39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9AF1-642F-4BF8-8FA4-C574124C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1853A-1025-4731-A8FC-3369CA06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3CC-7610-49E9-91BB-D5463103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992CC-DD67-4880-B58D-56766683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08C4-F863-41D6-BACA-27A9F682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E96C-4030-42ED-88EC-742C3153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66CC7-B08D-4EF8-A005-FF632AB0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38B53-38D0-40A1-A006-1F32C483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5B4A1-2C59-459F-9398-5FE858E2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735F-1140-4E8D-94C9-95771AC9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1DB62-E74D-410A-BADF-61EA0083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E3EAC-8C3C-4130-91D0-1DF00A0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F3BDB-B097-46F1-9A42-B7E49778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305-04D2-4DDA-833E-EE4D30D9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3315-64B3-4408-80C6-36593227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350DC-724E-40AB-817B-4B085B25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15621-3FE5-4DDF-8B44-11406298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A4B-CB69-4DB6-AB48-CFEFE2A1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E5F-7472-4ECA-84D1-3739BB9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BDD0-41A5-4415-88A5-572DB646FB53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DDDD-339C-4E87-AF8E-413B3D9E504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>
              <a:gd name="textAreaLeft" fmla="*/ 0 w 3038400"/>
              <a:gd name="textAreaRight" fmla="*/ 3038760 w 30384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30AB-0554-4E4A-A6B9-1E993577B0C6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D611-ABFB-4CE4-BEF8-D3BC049D6EF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>
              <a:gd name="textAreaLeft" fmla="*/ 0 w 3038400"/>
              <a:gd name="textAreaRight" fmla="*/ 3038760 w 30384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F0E-589E-448E-82BD-E2803E7B5255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CCD2-ECBA-43B5-BA6E-CF1460978CF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B1BA-8012-49E8-8554-8D584EAB9002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6841-65D3-4F46-B085-D9C48C24997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CB13-6308-4FD7-9770-02CA818A935E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7013-254F-41A5-A036-9AA2BB6EFD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2545-C89D-4804-A214-3FB4A8A4312E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33DC-D47E-40B1-970C-79129B237D7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2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1F22-6306-4429-9A84-378CD1ACB0C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030F-D861-4133-B392-EBE0116611C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1752480" y="365760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Students are Glued to Their Phones – What do I do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member the clicker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eClicke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ttp://www.bignerdranch.com/software/mobile/eclick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hone H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hone or Browser cl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ditor.eclicker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44C9-BDEB-4786-9796-AD0CD4DAD3C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y Too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1371240"/>
            <a:ext cx="5715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y C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ww.studycell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thewords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bile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mobilestudy.org/u/3013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mobilestudy.org/u/3013/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ww.mobilestudy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7150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Flashca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ing for compreh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izz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9BCA-95A2-4F31-B6CA-528D45BF522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scus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can these tools be used in your classroom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ve you had experience using any of these tool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e there other tools you have used effectivel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65D2-CD83-4DE3-A742-A22377E5A0D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4" descr=""/>
          <p:cNvPicPr/>
          <p:nvPr/>
        </p:nvPicPr>
        <p:blipFill>
          <a:blip r:embed="rId1"/>
          <a:stretch/>
        </p:blipFill>
        <p:spPr>
          <a:xfrm>
            <a:off x="665280" y="3548160"/>
            <a:ext cx="6649920" cy="1865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2FE9-9825-4BF6-A2D1-CD09B77CBF0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 you want to create a mobile website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1 – Platform dependent or independ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2 – Which Platform(s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3 – Are you a programme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4 – Are you good with HTML/XM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 5 – How much time do you ha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30F-067E-4B41-8150-CEB3B89386D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me Simple Op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nksi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nksite.mobi/dkeathly/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winksite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Zinado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 -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ttp://dkeathly.zinadoo.mob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zinadoo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Ubi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dmk.ubik.net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9800" indent="-24552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ubik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3D20-748D-4CDA-AB85-07C57767F78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scus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could you use mobile web sites for in your clas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uld the add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ypes of features do you need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647B-2F0E-4716-8CEC-9062BB8D114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uld I develop an Android App?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!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AppInven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07CC-D823-49CC-8500-5B11335E88F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C909-442F-42AC-9658-D1195B35D11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ea0b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ve education by integrating computing devices into classroo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 in low-cost, sustainable wa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way, leverage devices students carry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going to use them anyway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089000" indent="-106668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6BA9-A82D-40A3-A2B7-B001616DC6D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887C-CD64-4B43-9360-395204B30DA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fore We go too far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 has a laptop or Tablet PC with th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 has a cell phone or PDA with them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286000" y="38862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371600" y="3505320"/>
            <a:ext cx="716292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Stud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6.1% Cell Ph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.0% Smart Ph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.9% P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6.3% Digital Gaming 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3.7% Lap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The ECAR Study of Undergraduate Students and Information Technology,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Book"/>
              </a:rPr>
              <a:t>Potential Benefits of Using Cell Phones in Learning According to PARENTS!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3% Increases student engagement 41% Prepares students for world of work 38% Extends school day learning 37% Provides access to online textbooks 35% Improves teacher-parent-student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communications 32% Students can review class materials 31% Personalizes instruction 27% Provides way to help struggling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8C3E-4595-4A28-AA38-B100D09ECEF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re Cell Phone Access Sta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8% of high school students have a cell phone (31% with mobile Intern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3% of middle school students have a cell phone (25% with mobile Intern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3% of 3rd through 5th graders have a cell phone (15% with mobile Intern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8% of K-2nd graders have a cell phone (12% with mobile Intern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41A7-9F0E-4ADA-8243-455EA3CD284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ent Suggestions on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up information on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rd or take no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 on projects with classm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cess digital textboo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ke videos of class presentations or experi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y educational ga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e with classm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reminders and ale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e school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cate with teac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rn about school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cess social net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e and share documents/me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load assignments and work to por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rdinate calend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e/edit bookma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0CF-6410-4170-A7E2-9D1BDC131C5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ells Phones vs. Lapto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ll phones, not laptop computers hold the most promise for the spread of one-to-one computing, particularly students with limited resources and especially for students from under-developing nations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Bill G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C073-DEEF-4AE6-B70B-8F4369B4EA0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30AE-070F-413A-BF0C-3359062B92F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Using the Tools You Already Have!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Ph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Brows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teracting in Clas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fit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wifitti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llEveryw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polleverywhere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biode polls and survey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2010.mobiode.mo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mobiode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8765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informal discussion to engage stu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polls and surveys to get feedback and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D660-138D-46F6-BF91-6827644FA07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5:21:07Z</dcterms:created>
  <dc:creator>cmprince</dc:creator>
  <dc:description/>
  <dc:language>en-US</dc:language>
  <cp:lastModifiedBy>David Keathly</cp:lastModifiedBy>
  <dcterms:modified xsi:type="dcterms:W3CDTF">2011-01-06T05:37:15Z</dcterms:modified>
  <cp:revision>349</cp:revision>
  <dc:subject/>
  <dc:title>Integrating Diverse Student Devices Into the ClassRoom</dc:title>
</cp:coreProperties>
</file>